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1BF3C-48B1-4552-8185-448F7255F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57F60-C7C5-4FBF-8134-B06616309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60091-2797-403B-BCF4-D0C1B34E3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1A5E6-9BB3-45E3-BE02-382EABB43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9B3FA-9E1E-4E78-93AD-017589033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0115C-A5D3-429D-A8DF-CF9260BF3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7D009-C52F-49EC-8620-0E3F2761D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2911E-7590-415B-A90C-EC591BE8F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CD694-65AC-42B9-B714-F3F28C04A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D96DA-6E94-4C5A-A256-7DDB4CBF2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ADCB7-884E-4D1A-B873-C4DEA66F0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2C26A-5172-4213-8592-62764B932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16FDD-4FC4-485A-B9BC-0A5F7F469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92625-9256-4921-9C65-2EEA30B0B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BF233-5A16-4E29-B2CD-13071C0FA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DD5BC-B427-4941-B3EA-4B8CDFAC6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1A6DD-8163-496E-BF45-07370C36F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EDC49-2838-4C84-AD2B-35F31D590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F102E-E69F-4A5B-A75B-D7092B88A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E8602-0F9C-4B5B-BED9-7E1354B85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4EB83-4FCE-4570-93D7-FC7D956B8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E7317-D253-4729-9A06-51E847F7F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37C9D-0F0B-4EAF-A654-28628D8DC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231A8-AA70-43C8-B9EA-0CC5E70F2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6680" cy="6858000"/>
            <a:chOff x="-720" y="-4680"/>
            <a:chExt cx="106668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2080" y="3273480"/>
              <a:ext cx="6856200" cy="29988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B147B-E9A0-4885-BD32-73B0DB454C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371240"/>
            <a:ext cx="77724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F5978-0658-47ED-8D18-9C9858C96D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73240" y="1371240"/>
            <a:ext cx="77724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hone A Friend</a:t>
            </a:r>
            <a:br>
              <a:rPr sz="4400"/>
            </a:b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A vocabulary game from Mentoring Minds</a:t>
            </a:r>
            <a:br>
              <a:rPr sz="1800"/>
            </a:b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Grades 3 and 4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y with word wall words and your whole class in two or three tea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y phones make this all the rav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hone A Friend</a:t>
            </a:r>
            <a:br>
              <a:rPr sz="4400"/>
            </a:b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The Skinny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vide class into two or three tea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w a vocabulary card to the first team.  The first player should answer with the correct definition for a point.  If anyone else talks that team looses a poi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it is their turn students may use a play phone to “call” another student on the team for hel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Variation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 teams definitions to read.  They should answer with the correct word for a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9T13:44:52Z</dcterms:created>
  <dc:creator>Ann Weeks</dc:creator>
  <dc:description/>
  <dc:language>en-US</dc:language>
  <cp:lastModifiedBy>Ann Weeks</cp:lastModifiedBy>
  <dcterms:modified xsi:type="dcterms:W3CDTF">2008-06-29T13:56:34Z</dcterms:modified>
  <cp:revision>3</cp:revision>
  <dc:subject/>
  <dc:title>Phone A Friend A vocabulary game from Mentoring Minds</dc:title>
</cp:coreProperties>
</file>